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7ED-04D3-4E9F-9968-209C8DFE160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CM2002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Carry out excavation is imported from CPC32308 Certificate 3 in Stonemasonry (Monumental / Install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CM2008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rect and dismantle restricted height scaffolding is a core unit in CPC32308 Certificate 3 in Stonemasonry (Monumental / Install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CM2005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Use construction tools and equipment is imported from CPC31608 Certificate 3 in Pav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JN2003A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ackage manufactured products for transport is a core unit in CPC20508 Certificate 3 in Stonework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Elective unit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CPCCJN2003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ackage manufactured products for transport is a core unit in CPC20508 Certificate 3 in Stonework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electives may be chosen from the Monumental stream, additional to the one stage 1 elective and the two stage 2 el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onument electives (CPCCST3011A and CPCCST3013A) are a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ix electives may be chosen from the Installation stream, additional to the one stage 1 elective and the two stage 2 el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three paving electives (CPCCPA3001A, CPCCPA3002A and CPCCPA3003A) are a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usiness electives may be chosen, additional to the one stage 1 elective, the two stage 2 electives and four other el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CE5-D766-416C-B962-3410FD4E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E47-1BD3-4BAD-A70A-1C0B1351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49A-984B-452F-B3C7-BC66150C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474-CE90-4BE5-B466-98D44780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EA0-58A0-43E5-8EC5-D72355B0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CBF-42D4-4254-9C87-8CD2961A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0ED-0E43-4455-AC02-55C5399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20B-9CB5-4B18-923B-8A8DAF75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E3C-E1F6-4116-B0BE-A78F36A3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B8D-0ED0-48CD-9FBE-83E94B4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9CB-FEAD-45F1-9A43-E2ED2260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57E-C7A3-4105-9A3A-CB249CF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F394-77E8-4214-BB15-ABC3AE71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06360" y="569880"/>
          <a:ext cx="6732720" cy="5683320"/>
        </p:xfrm>
        <a:graphic>
          <a:graphicData uri="http://schemas.openxmlformats.org/drawingml/2006/table">
            <a:tbl>
              <a:tblPr/>
              <a:tblGrid>
                <a:gridCol w="451080"/>
                <a:gridCol w="1290600"/>
                <a:gridCol w="499104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effectively and sustainably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 and organise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ct workplace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measurements and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 and interpret plans and 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exca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construction tools and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O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concreting to simple fo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basic levelling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8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ect and dismantle restricted height scaffo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JN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age manufactured products for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OHS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OHS requirements, policies and procedures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H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surfa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for stonemasonry construction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load slinging of off-site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20508 Certificate 2 in Stone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201680" y="566640"/>
          <a:ext cx="6732720" cy="5670720"/>
        </p:xfrm>
        <a:graphic>
          <a:graphicData uri="http://schemas.openxmlformats.org/drawingml/2006/table">
            <a:tbl>
              <a:tblPr/>
              <a:tblGrid>
                <a:gridCol w="451080"/>
                <a:gridCol w="1290600"/>
                <a:gridCol w="4991040"/>
              </a:tblGrid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effectively and sustainably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 and organise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ct workplace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1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measurements and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 and interpret plans and 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exca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construction tools and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O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concreting to simple fo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basic levelling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M2008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ect and dismantle restricted height scaffo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JN2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age manufactured products for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OHS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y OHS requirements, policies and procedures in the construction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H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surfa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for stonemasonry construction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2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load slinging of off-site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95280" y="603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65400" y="1557360"/>
          <a:ext cx="6451560" cy="2467080"/>
        </p:xfrm>
        <a:graphic>
          <a:graphicData uri="http://schemas.openxmlformats.org/drawingml/2006/table">
            <a:tbl>
              <a:tblPr/>
              <a:tblGrid>
                <a:gridCol w="642600"/>
                <a:gridCol w="1584360"/>
                <a:gridCol w="422460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A3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setting 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CA302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levelling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ess and mould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pe solid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lit stone ma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ess stone manu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5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profile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54240" y="1557360"/>
          <a:ext cx="6978600" cy="2335320"/>
        </p:xfrm>
        <a:graphic>
          <a:graphicData uri="http://schemas.openxmlformats.org/drawingml/2006/table">
            <a:tbl>
              <a:tblPr/>
              <a:tblGrid>
                <a:gridCol w="558720"/>
                <a:gridCol w="1428840"/>
                <a:gridCol w="4991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umental el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7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n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8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lay lead to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09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computer-controlled static machinery to produce stone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0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 out and cut letters in 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 monument 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y out cemetery monument fix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54240" y="1557360"/>
          <a:ext cx="6989760" cy="2335320"/>
        </p:xfrm>
        <a:graphic>
          <a:graphicData uri="http://schemas.openxmlformats.org/drawingml/2006/table">
            <a:tbl>
              <a:tblPr/>
              <a:tblGrid>
                <a:gridCol w="558720"/>
                <a:gridCol w="1440000"/>
                <a:gridCol w="4991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lation el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PA30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re subgrade, base and bedding course for segmental pa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PA300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y segmental pa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PA3003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 segmental pa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2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d stone veneer w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ST3014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 and anchor stone fac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CBL301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uct battered masonry walls and pi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C32308 Certificate 3 in Stonemaso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559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al /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4240" y="1568520"/>
          <a:ext cx="6891120" cy="909720"/>
        </p:xfrm>
        <a:graphic>
          <a:graphicData uri="http://schemas.openxmlformats.org/drawingml/2006/table">
            <a:tbl>
              <a:tblPr/>
              <a:tblGrid>
                <a:gridCol w="558720"/>
                <a:gridCol w="1341360"/>
                <a:gridCol w="4991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g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elec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BSMB301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igate micro business opport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BSMB406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 small business fin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58:05Z</dcterms:created>
  <dc:creator>browns</dc:creator>
  <dc:description/>
  <dc:language>en-US</dc:language>
  <cp:lastModifiedBy>browns</cp:lastModifiedBy>
  <dcterms:modified xsi:type="dcterms:W3CDTF">2009-09-16T12:50:13Z</dcterms:modified>
  <cp:revision>7</cp:revision>
  <dc:subject/>
  <dc:title>CPC20508 Certificate 2 in Stoneworking</dc:title>
</cp:coreProperties>
</file>